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1EB-C028-4123-A4D3-DA6DE950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7D4-B553-416C-84DF-2F5F376D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84D-C42C-4D2D-84DB-59109AED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AE5-9C2A-4D84-995E-451D503A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A13-6408-499D-AF7E-6550BE0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C6A-04C9-4111-B9CB-3EE3A01A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6F7-BF26-4F0C-9436-0E52856B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DE1-2CD0-4011-A7C8-64E9F88F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DEA-8C3D-454B-B306-98A9DE40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5EC-873D-447C-A2B8-8DBA251B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30A-B6F7-40AE-ADFC-54A5FF8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E5B-8C64-41F3-A50E-C470C67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6C4C-42F3-4F07-A4A5-F8B894211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ent Sustained reading done in conjunction with a modified AR program, can increase reading comprehension and the love of read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4120" y="3505320"/>
            <a:ext cx="35049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s surve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surve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 who read for fu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 who only read if it is assigned for a gra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 who never rea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 for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Ba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Partially Profi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Profi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Advan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ot most of what was rea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ed some of the tex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tell the main idea and many detail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tell the main idea and very complete detail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Rubric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for Oral 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fast or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loud or 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with p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expre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19720" y="1371600"/>
          <a:ext cx="4266720" cy="4754160"/>
        </p:xfrm>
        <a:graphic>
          <a:graphicData uri="http://schemas.openxmlformats.org/drawingml/2006/table">
            <a:tbl>
              <a:tblPr/>
              <a:tblGrid>
                <a:gridCol w="1066320"/>
                <a:gridCol w="1067040"/>
                <a:gridCol w="1066680"/>
                <a:gridCol w="10666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of oral fluency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73040" y="1611360"/>
          <a:ext cx="819468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611360"/>
                    <a:ext cx="81946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silent sustained reading in a class period at the start of class, several times a week. Everyone would read, including myself. Students would also do a modified AR program, where they did projects, as well as the computer generated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52:57Z</dcterms:created>
  <dc:creator>student</dc:creator>
  <dc:description/>
  <dc:language>en-US</dc:language>
  <cp:lastModifiedBy>student</cp:lastModifiedBy>
  <dcterms:modified xsi:type="dcterms:W3CDTF">2011-01-25T20:38:00Z</dcterms:modified>
  <cp:revision>5</cp:revision>
  <dc:subject/>
  <dc:title>  Silent Sustained reading done in conjunction with a modified AR program, can increase reading comprehension, and the love of reading.</dc:title>
</cp:coreProperties>
</file>